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62D-A8CB-4ECF-BFCF-F50CA6CC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11A-F494-4021-A125-0D323392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50AA-F033-4B0A-B966-38A88D6B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3E7-ABDC-423C-80CB-ED2B81F7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4C98-B5D5-4264-A6E2-8B7500F0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FC9D-5B99-41EB-8616-11ADA6EF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410B-C0BF-44AD-B653-FE0BA278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D6AC-D535-4F98-A467-1B1DC617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19B3-489F-480A-A586-E01AE000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F8F8-3958-4739-B2E8-80AD68F2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FADB-DA1E-4623-A2FE-FE187866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368-1B70-4332-9721-85DC01AD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4017-9BF4-4D0E-8C9C-AA9E7A69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E9FA-F651-43AF-95DA-3388B23F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9077-77BB-410E-B5FA-C1FAFFFC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C142-072A-437D-A492-036BD525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E5A3-67F1-4F68-B8D2-3DB94822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C3F-92FF-444A-92EB-E793FC16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3F68-E13B-4A9B-9896-035B79D5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D15-F101-47FC-81B7-87AD1EB0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DD14-03AF-4A6C-A302-C10D6BD6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0E8D-C518-4183-9041-66AEBB68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9F6-E2FC-444A-8995-B0BE8D0B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8AC6-8E88-4295-B84D-4D3C0ECC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67FC-1A00-4B27-8B7B-4CD56D397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676E-F432-431B-B64B-46DF39069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Video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10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Video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41907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isual motion helps to convey realism and movemen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88080" y="2057400"/>
            <a:ext cx="3951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Uses of Video in Multimedia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Video enhances common applications of multimedia.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deo simul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w procedures and interactions that would be dangerous to perform in act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 video to simulate flight, car racing, and other 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sites and CD-RO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 videos as reference mater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deoconfer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able participants to see each other and witness demonst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Video Quality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ideo quality depends on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olution and clarity of individual video fram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rame rate or speed at which video frames appear. Frame rate is measured in frames per second (FPS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is streaming video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reaming video refers to a technique for transferring data so that the browser starts displaying the data before the entire file has been transmitted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Video File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video file’s format determine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programs can open and play 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space it occupies on a dis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fast it travels over an Internet conne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Common File Format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most commonly used video file formats ar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 (movie), also known as QuickTim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MV (Windows media video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I (audio video interleave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PEG compresses audio and vid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Video Softwar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re are programs for playing video and audio, as well as editing and distributing video.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umber of video players are available on the Internet for free or at nominal co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deo editing software allows you to edit vide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202360" y="1981080"/>
            <a:ext cx="33098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Video Hardwar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Video hardware include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corders, digital or analog, for recording live 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cams, to include live, streaming video in a Web s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ture cards for converting analog video to digital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deo tuners to enable a PC to receive and save television sign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3T22:58:37Z</dcterms:created>
  <dc:creator>Danielle Perkins</dc:creator>
  <dc:description/>
  <dc:language>en-US</dc:language>
  <cp:lastModifiedBy>GLENCOE</cp:lastModifiedBy>
  <dcterms:modified xsi:type="dcterms:W3CDTF">2003-01-04T01:10:06Z</dcterms:modified>
  <cp:revision>8</cp:revision>
  <dc:subject/>
  <dc:title>Chapter 10 Video</dc:title>
</cp:coreProperties>
</file>